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93D-C889-4A89-887E-C9E2359B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9EE0-A1BA-4BB7-980B-91F70372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CA00-BF08-4F5A-AECA-2B18CDDE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C7A-DA64-4009-AD45-5DBAF99D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0FD5-DF2D-4FBF-97C5-78C4C92C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6B78-7542-4087-952A-AD702021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52FD-745C-4D02-A4E0-21C6CCED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E0CA-1135-409A-A527-E04F6C62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D4CA-9D21-46E2-8F5C-17E3A87D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921D-4951-4549-8DEE-76344777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6370-CD80-48A2-81F4-51CF8443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CE33-E458-4943-A12A-E7C43B31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B013-2093-427C-A027-996B9566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6021-EA50-41F6-B3FB-6CA7F7B6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8EBF-2B9A-47CF-90DE-ACFC0AB8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D722-E5C1-4BB2-B6AF-CB0D3C63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F540-5D20-41F5-BFA3-7EE3C336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7D0B-94DF-421C-8A4D-97CDC759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CF9-A4E4-471A-B0ED-41D237B6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935D-0457-4EA6-9F6D-30871106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CA53-8A4D-4D73-8477-D0DED48A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6EED-6E0F-4B2E-8B39-CACA8E94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B77B-E1A1-40FF-836D-4C402FF2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50D2-8F13-45F9-900A-CEF122CB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0737-2C0D-4B16-8D04-60738AECCC4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0F14-16EB-4A0B-B38C-0A6D2D2D996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Cooper Black"/>
              </a:rPr>
              <a:t>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Cooper Black"/>
              <a:ea typeface="Cooper Black"/>
            </a:endParaRPr>
          </a:p>
        </p:txBody>
      </p:sp>
      <p:pic>
        <p:nvPicPr>
          <p:cNvPr id="114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115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addc"/>
                </a:solidFill>
                <a:latin typeface="Cooper Black"/>
              </a:rPr>
              <a:t>Measurement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addc"/>
              </a:solidFill>
              <a:latin typeface="Cooper Black"/>
              <a:ea typeface="Cooper Black"/>
            </a:endParaRPr>
          </a:p>
        </p:txBody>
      </p:sp>
      <p:pic>
        <p:nvPicPr>
          <p:cNvPr id="116" name="Picture 7" descr="C:\Documents and Settings\Liz\Local Settings\Temporary Internet Files\Content.IE5\MB5MZXEX\MCj04110470000[1].wmf"/>
          <p:cNvPicPr/>
          <p:nvPr/>
        </p:nvPicPr>
        <p:blipFill>
          <a:blip r:embed="rId2"/>
          <a:stretch/>
        </p:blipFill>
        <p:spPr>
          <a:xfrm>
            <a:off x="533520" y="3429000"/>
            <a:ext cx="26668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do you think a cubic centimeter and a milliliter have in common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are equal to each other. Doctors often say to take 3 ccs of a liquid medicine which would be equal to 3 ml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6:43:09Z</dcterms:created>
  <dc:creator>PritchaJ</dc:creator>
  <dc:description/>
  <dc:language>en-US</dc:language>
  <cp:lastModifiedBy>PritchaJ</cp:lastModifiedBy>
  <dcterms:modified xsi:type="dcterms:W3CDTF">2011-05-24T16:46:21Z</dcterms:modified>
  <cp:revision>3</cp:revision>
  <dc:subject/>
  <dc:title>Slide 1</dc:title>
</cp:coreProperties>
</file>